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B92-7935-4A9A-AA43-FA9F8716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0CE-6D3B-4644-8279-6B8EBB3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F61-4C49-4A51-8D11-F4C8DF1C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2A4-EECE-4A49-B3C2-3452ACA2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EF3-81DF-4BAB-84CC-68E87DC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316-751A-40F6-82D8-71D0034D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455-9689-4A07-BF06-746451E2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727-6EE1-480F-BB65-EA1A79E8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4B1-769F-4F8B-A29F-5CC2A86B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5E2-0F8F-40B4-9397-0D63EE2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418-B142-4200-9EFB-38CCBAB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CC6-571A-4E44-B47E-59E1B468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79E-79F2-4695-AA8B-9A4551905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dventurestage.org/filebin/pdf/Why%20Children%5C&apos;s%20Theater%20Matters-Education.com.pdf" TargetMode="External"/><Relationship Id="rId2" Type="http://schemas.openxmlformats.org/officeDocument/2006/relationships/hyperlink" Target="http://www.educationupdate.com/archives/2004/apr04/issue/car_nixon.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2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); Zastrow (2004); Catterall (2002); Betts, Fisher &amp; Hicks (n.d), Wood (2006,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,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 &amp; Hicks (n.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By integrating music and theater into a first grade classroom at the P.S. 152 annex in Brooklyn, NY, their attention span throughout the day will increase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13T20:36:36Z</dcterms:modified>
  <cp:revision>32</cp:revision>
  <dc:subject/>
  <dc:title>By Kirsten Porcelli ED 702.22 Fall 2008 Dr. O’Connor-Petruso</dc:title>
</cp:coreProperties>
</file>